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2EE6FB-043F-430B-8F8B-093ABE26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M2 staffing in TFA programs, include the Technical Focal Lead, RTA(s), STTAs, M2 backstops and M2-supported consultants involved in any technic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614F-08A2-4A21-A25A-2D5666C82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8A6D-E835-4A26-8D35-84063938F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C2BC-062C-4193-9170-25787E748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EE17-61A4-4B99-A6F3-574CB2912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A4F6-3259-419E-8F11-8F49E4892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0289-19D7-49DE-871D-4BEDCA6C89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B24B-EDB9-42C3-9DAD-16ED8C0AC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F2FE-DA27-46A2-9BCF-8157559DB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99CE-23F4-4280-A43B-B2C81A4B1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2E79-AF59-48E9-8A8A-C25A5B0DF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06B6-29BD-4280-BDF1-A10E150AE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A973-60D6-4651-8143-8A19A9DFE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3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120" y="6381360"/>
            <a:ext cx="63831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324480"/>
            <a:ext cx="8886960" cy="0"/>
          </a:xfrm>
          <a:prstGeom prst="line">
            <a:avLst/>
          </a:prstGeom>
          <a:ln w="28440">
            <a:solidFill>
              <a:srgbClr val="2b3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9140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6E5-1936-4575-9047-8DBBEB8010E3}" type="slidenum">
              <a:rPr b="1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ty Visits- Discussion and Ref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Data availability?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Ease of data collection?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Calculation and interpretation?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3585"/>
                </a:solidFill>
                <a:latin typeface="Arial"/>
              </a:rPr>
              <a:t>Strengths and weakness of indicators?</a:t>
            </a: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berculosis Technical Focus Area Activties and Update All-Staff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BCF9-ACE6-4F23-9863-808B74C876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38:47Z</dcterms:created>
  <dc:creator>Carolina Population Center</dc:creator>
  <dc:description/>
  <dc:language>en-US</dc:language>
  <cp:lastModifiedBy>Carolina Population Center</cp:lastModifiedBy>
  <dcterms:modified xsi:type="dcterms:W3CDTF">2006-11-09T15:12:48Z</dcterms:modified>
  <cp:revision>14</cp:revision>
  <dc:subject/>
  <dc:title>MEASURE Evaluation Co-branding Guidelines</dc:title>
</cp:coreProperties>
</file>